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FE938B6-65D8-4094-9911-BA64B12F7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C0AFCA9-D3AE-4945-BEBB-7DF08668C6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ed outcomes – cross-site study U of Illinoi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of sobriety, reduced relapse and hospitalization, safe reunification with children, reduced domestic violence, children under 5 attaining normal developmental milestones (with 50% develop delay initial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comes for other programs – anecdot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 Services/SPMI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aged many people homeless and iso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ospitalizations – for psych and non-ps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social learning community – peer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over 6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d chances of appropriate school pla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n aggressive behavior and act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d problem-solving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B80ED99-BC8A-47E4-99B1-6AE073C35C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 catalyze and reinforce social and emotional skills development -- jiust as school is a social/group learn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6B7E2FB-7D2F-4A67-9477-AAC68C067B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xperience in NYS training Family Practitioners – fulcrum nature intellectually of the practice – with may who by nature and exposure become passionate advocates for rationale resource allocation for their patients – much as more evidenced by all here in Contra Costa:  from my first exposure to Priscilla Hinman, Chris Farnitano, Steve Tremain, Bill Walker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L work -- John Echols, within CCRMC, AmCare -- Priscilla Hinman, Chris Farnitano, Bill Serbin, and several newer psychiatrists -- Renee Cloud, Uzma Anwer, Halla Fattah 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oups catalyze and reinforce social and emotional ski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idenced-based 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5B674D7-C637-4C7B-B619-D0204B9870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 – several things lear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Unusual caliber of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Considerable differences between comm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st useful to pres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rk came into be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esigned to ach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s paradigm and services– with 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on Center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raised as result of the work that may be useful to 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A9E02CA-C624-43B1-9990-22FBFC458D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xperiences often lasting 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gmented, overlapping, ineffectiv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rotating through systems -- adults and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FF6C1FA-E5E2-43EB-BB9E-B0F0D2682C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 affects all members of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al gaps – impact on kjds and ad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 in Washington, D.C. when family work began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ight of crack epidemic; bifurcated City; more than 65% living in poverty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astation of family bulwark in poor, largely A.A. community – families as immun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ignificant violence within community --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ly institutional system in D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 overwhel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d c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coming to CMH – organizn I inherited/invitation by City’s Office of Health Care Fin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A7735A1-B344-4BDE-B902-97ED4F0E42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8F04EE0-CD8D-46F1-A316-842571A7DA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 Population at CMH had been over 2,000 initially – with about 30% SPMI and 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ructured in years from 1990-1994:  increased percentage SPMI, DD; work with grandparents/extended care g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noted is that family centered work initially begun with parents and children (1990-94)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ly diagnosed – mainly mothers and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d SPMI by 1998 through separate track – using several of principles – member council; family supports; Psyhciatric Rehab Model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ony with life skills, but increased emphasis throughout CMH on s-e skills woven in due to gaps in this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5FA3F73-005C-4EC9-89D8-F2564D56F2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al gaps in social and emotional skills pivotal however – as without adequate intervention – this follows these kids into adulthood – and same gaps become barriers for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ildhood alone – these gaps prevent kids from being ready to learn in a social, group context – I.e. what school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why so many schools overwhel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ly, much of work requires similar skill s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B8EC06E-74CB-421E-986D-D6602CDBF7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agement through outreach and cultural competence of staff -- significant community members, respite/SOFA; 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surrogate family – unabashed use of staff within milieu 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ene at the earliest possible point -- from infancy onwa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very oriented –  not  illness alone – part of recovery requires sense of belonging; indiv as social being -- arts, dance, music,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– self within larger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ressing developmental gaps cri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M at CMH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more concrete services and link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R issues/ violence in community/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Devel. Associates spec. trained by doctoral level staff; adaptation of Rehab curricu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50BDB3A-9869-496C-9473-FBF724E319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ing barriers to eng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, child care, outr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ieu – social glue – sense of community – surrogate family, reparenting without patron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s of Attiba – dealt with emotional issues explosive in former lives -- within safe, reflectiv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ices reflect 7 programs tailored to age and function – linkages across programs to work with family me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F5AE-5907-4979-A0D7-A0E9725D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AB70-2BE9-48A9-A7FF-0EB8006A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F466-22F4-402F-A059-7825AFC0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BAE8-C664-4B73-A9A1-2464BFC8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FFA2-E18C-4201-8D1D-00CC4407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34F3-0DDF-43D9-A256-1476D857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98D9-BE1D-4372-92C9-4408FE35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AD66-0BF9-4ABF-B7AF-3750DF59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94AF-0C0D-4A86-A216-C2262D12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0BF4-91A0-4CF8-88CD-40B25FB6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ECD0-7436-4AB9-801F-61ED7065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F5A4-3C1B-4753-AD14-1BCB871A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4145-3AF7-4F85-A363-8C60CC95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BCCE-C5D1-4680-8137-42B4B345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7029-E773-4E8D-8706-C0E167ED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853C-30C3-4E55-BA1B-EC9F985B3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A514-C4CF-4F49-8341-3AC14733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4A22-52E1-4494-BB22-285CAAC0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6EF9-5992-46B9-8432-4648589B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D133-37B3-49E9-AA43-5D6FD7D2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EBEA-80A3-414C-89C2-A9EA107E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B1C7-6159-4305-A2BD-A5E790D6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1E89-7080-466F-A24B-21AF2D03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C848-BAB8-45FB-8A8C-2DBAA9F2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1DC2-CF42-4318-9389-CA078DAB45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8FD2-8A04-4128-A0F9-56BABA2B50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reaking the Disability- Poverty Cyc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040" y="3580920"/>
            <a:ext cx="57913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Intervention in Behavioral Health 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28796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3" descr="logo"/>
          <p:cNvPicPr/>
          <p:nvPr/>
        </p:nvPicPr>
        <p:blipFill>
          <a:blip r:embed="rId1"/>
          <a:stretch/>
        </p:blipFill>
        <p:spPr>
          <a:xfrm>
            <a:off x="152280" y="6172200"/>
            <a:ext cx="4003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457200" y="6477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066680" y="603576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ample Mean of Family Treatment Goal Attainm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523880" y="56386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te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3124080" y="56386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te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4800600" y="56386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te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6400800" y="56386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M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762120" y="228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iversity of Illinois Outcome Study (1996-2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1371600" y="7621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omen MH Consumers &amp; Their 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12" descr="U of I Chart"/>
          <p:cNvPicPr/>
          <p:nvPr/>
        </p:nvPicPr>
        <p:blipFill>
          <a:blip r:embed="rId2"/>
          <a:stretch/>
        </p:blipFill>
        <p:spPr>
          <a:xfrm>
            <a:off x="838080" y="1371600"/>
            <a:ext cx="7391520" cy="42372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429000" y="-426708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come data: Changing Progn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What did we learn from this integrative work?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Helvetica CE"/>
              </a:rPr>
              <a:t>Family as central to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S-e skills, 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Helvetica CE"/>
              </a:rPr>
              <a:t>Eng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Helvetica CE"/>
              </a:rPr>
              <a:t>Early inter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Public h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UC Davis and other cente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Helvetica CE"/>
              </a:rPr>
              <a:t>Integrate</a:t>
            </a:r>
            <a:r>
              <a:rPr b="1" lang="en-US" sz="3200" spc="-1" strike="noStrike">
                <a:solidFill>
                  <a:srgbClr val="ffcc66"/>
                </a:solidFill>
                <a:latin typeface="Helvetica C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MH/SA/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Intensity of each drives set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CC -- Strengths to build on:-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amily  Practic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iction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Magnet for Chang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ntegrative Medicine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DA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Groups 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Front 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MP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-L work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CCRM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mbulatory c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x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53272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An Integrated, Family-Centered Approach to Working with High-Risk Population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7560" y="312408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 undertaken at the Center for Mental Health, Inc in Washington, D.C. between 1990-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ed at the Invitation of Karen Burt, M.D., Director of Integrative Health -- to the Family Practice Residents, Tuesday March 24, 2009 – by Johanna Ferman, M.D., Medical Director, Adult System of Care, Mental Health Division, D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371600" y="2286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Prognosis &amp; The Fault L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19080" y="4757760"/>
            <a:ext cx="5429160" cy="2081160"/>
          </a:xfrm>
          <a:prstGeom prst="pie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Freeform 4"/>
          <p:cNvSpPr/>
          <p:nvPr/>
        </p:nvSpPr>
        <p:spPr>
          <a:xfrm>
            <a:off x="4591080" y="4718160"/>
            <a:ext cx="4629240" cy="958680"/>
          </a:xfrm>
          <a:prstGeom prst="pie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19040" y="548640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e Fault Line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Untreated Addiction and Mental Ill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4591080" y="5715000"/>
            <a:ext cx="57240" cy="19080"/>
          </a:xfrm>
          <a:prstGeom prst="pi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743360" y="5962680"/>
            <a:ext cx="990720" cy="914400"/>
          </a:xfrm>
          <a:prstGeom prst="pie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8" descr="logo"/>
          <p:cNvPicPr/>
          <p:nvPr/>
        </p:nvPicPr>
        <p:blipFill>
          <a:blip r:embed="rId1"/>
          <a:stretch/>
        </p:blipFill>
        <p:spPr>
          <a:xfrm>
            <a:off x="228600" y="6172200"/>
            <a:ext cx="399960" cy="5335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9"/>
          <p:cNvSpPr/>
          <p:nvPr/>
        </p:nvSpPr>
        <p:spPr>
          <a:xfrm>
            <a:off x="533520" y="6400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10" descr="Telephant3"/>
          <p:cNvPicPr/>
          <p:nvPr/>
        </p:nvPicPr>
        <p:blipFill>
          <a:blip r:embed="rId2"/>
          <a:stretch/>
        </p:blipFill>
        <p:spPr>
          <a:xfrm>
            <a:off x="380880" y="838080"/>
            <a:ext cx="7772400" cy="4619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1"/>
          <p:cNvSpPr/>
          <p:nvPr/>
        </p:nvSpPr>
        <p:spPr>
          <a:xfrm>
            <a:off x="2209680" y="220968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4038480" y="1981080"/>
            <a:ext cx="1371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905120" y="20574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r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304812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iminal Just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4038480" y="190512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sfunctional School Syst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5791320" y="228600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itutionalization Of Children &amp; Ad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1752480" y="29718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mestic Viole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819520" y="3048120"/>
            <a:ext cx="1676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ken Chil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lfare Syst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4648320" y="2895480"/>
            <a:ext cx="144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isis and Emergency Room Visi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6705720" y="41148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21"/>
          <p:cNvSpPr/>
          <p:nvPr/>
        </p:nvSpPr>
        <p:spPr>
          <a:xfrm>
            <a:off x="1981080" y="41148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o-Natology and High Risk Infa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4648320" y="441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melessn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3716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nosis and The Elepha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1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3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3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Oval 2"/>
          <p:cNvSpPr/>
          <p:nvPr/>
        </p:nvSpPr>
        <p:spPr>
          <a:xfrm>
            <a:off x="1676520" y="685800"/>
            <a:ext cx="5715000" cy="548640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3520" y="2362320"/>
          <a:ext cx="1714320" cy="6397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earning Disabilit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24" name="Text Box 9"/>
          <p:cNvSpPr/>
          <p:nvPr/>
        </p:nvSpPr>
        <p:spPr>
          <a:xfrm>
            <a:off x="3886200" y="228600"/>
            <a:ext cx="1371600" cy="1223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Out of home plac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752480" y="914400"/>
            <a:ext cx="1905120" cy="1180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So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Emotion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Development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Dela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3352680" y="5715000"/>
            <a:ext cx="205740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Untre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Addiction &amp; ment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Illne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228600" y="3581280"/>
            <a:ext cx="2743200" cy="126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Disruption of fami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as “developmental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457200" y="5181480"/>
            <a:ext cx="2819520" cy="99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In utero” exposure to alcohol and drugs – multiple sequela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28600" y="228600"/>
            <a:ext cx="205740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Soc/Emotional Difficul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Depression, Aggression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5638680" y="1066680"/>
            <a:ext cx="32004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School failure- Drop 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6553080" y="2286000"/>
            <a:ext cx="13716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Early Pregnan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6553080" y="3733920"/>
            <a:ext cx="152424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imes New Roman"/>
              </a:rPr>
              <a:t>Gang activ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5791320" y="4876920"/>
            <a:ext cx="2057400" cy="1202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Use of alcohol/drugs 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Medicate underly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probl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AutoShape 20"/>
          <p:cNvSpPr/>
          <p:nvPr/>
        </p:nvSpPr>
        <p:spPr>
          <a:xfrm rot="7792800">
            <a:off x="5867280" y="990360"/>
            <a:ext cx="152280" cy="152640"/>
          </a:xfrm>
          <a:prstGeom prst="triangle">
            <a:avLst>
              <a:gd name="adj" fmla="val 4759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21"/>
          <p:cNvSpPr/>
          <p:nvPr/>
        </p:nvSpPr>
        <p:spPr>
          <a:xfrm flipH="1" rot="2076600">
            <a:off x="2133720" y="1752120"/>
            <a:ext cx="163440" cy="1638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22"/>
          <p:cNvSpPr/>
          <p:nvPr/>
        </p:nvSpPr>
        <p:spPr>
          <a:xfrm>
            <a:off x="1600200" y="28954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23"/>
          <p:cNvSpPr/>
          <p:nvPr/>
        </p:nvSpPr>
        <p:spPr>
          <a:xfrm rot="18097800">
            <a:off x="2819520" y="548604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24"/>
          <p:cNvSpPr/>
          <p:nvPr/>
        </p:nvSpPr>
        <p:spPr>
          <a:xfrm rot="8862000">
            <a:off x="7003440" y="2195280"/>
            <a:ext cx="228600" cy="12852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25"/>
          <p:cNvSpPr/>
          <p:nvPr/>
        </p:nvSpPr>
        <p:spPr>
          <a:xfrm rot="13556400">
            <a:off x="5486040" y="594288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26"/>
          <p:cNvSpPr/>
          <p:nvPr/>
        </p:nvSpPr>
        <p:spPr>
          <a:xfrm flipV="1" rot="15234600">
            <a:off x="3885480" y="6858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27"/>
          <p:cNvSpPr/>
          <p:nvPr/>
        </p:nvSpPr>
        <p:spPr>
          <a:xfrm rot="19363200">
            <a:off x="1981080" y="47242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28"/>
          <p:cNvSpPr/>
          <p:nvPr/>
        </p:nvSpPr>
        <p:spPr>
          <a:xfrm rot="11832000">
            <a:off x="6933960" y="472392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29"/>
          <p:cNvSpPr/>
          <p:nvPr/>
        </p:nvSpPr>
        <p:spPr>
          <a:xfrm rot="11126400">
            <a:off x="7314840" y="365688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30"/>
          <p:cNvSpPr/>
          <p:nvPr/>
        </p:nvSpPr>
        <p:spPr>
          <a:xfrm>
            <a:off x="990720" y="1219320"/>
            <a:ext cx="457200" cy="106668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31"/>
          <p:cNvSpPr/>
          <p:nvPr/>
        </p:nvSpPr>
        <p:spPr>
          <a:xfrm flipH="1" flipV="1">
            <a:off x="762120" y="1218960"/>
            <a:ext cx="457200" cy="114300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32" descr="logo"/>
          <p:cNvPicPr/>
          <p:nvPr/>
        </p:nvPicPr>
        <p:blipFill>
          <a:blip r:embed="rId1"/>
          <a:stretch/>
        </p:blipFill>
        <p:spPr>
          <a:xfrm>
            <a:off x="152280" y="6172200"/>
            <a:ext cx="400320" cy="5335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3"/>
          <p:cNvSpPr/>
          <p:nvPr/>
        </p:nvSpPr>
        <p:spPr>
          <a:xfrm>
            <a:off x="457200" y="6477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Cycle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of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isability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Poverty &amp;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Hopelessnes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6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7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7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8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8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9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95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143000" y="1676520"/>
            <a:ext cx="66294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“…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o break the cycle of disability, poverty and hopelessness due to untreated mental illness and addiction...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ission at CM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arget Population:  Adult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Dual Dx MI/SA(10 yrs+)  and SPM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Dissociative Disord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PTS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Multiple Axis II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High-risk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-- Social-emotional skills ga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s this familia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logo"/>
          <p:cNvPicPr/>
          <p:nvPr/>
        </p:nvPicPr>
        <p:blipFill>
          <a:blip r:embed="rId1"/>
          <a:stretch/>
        </p:blipFill>
        <p:spPr>
          <a:xfrm>
            <a:off x="0" y="6324480"/>
            <a:ext cx="399960" cy="5335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380880" y="6583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8236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arget Population:  Childre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26708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Birth through 2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Family history of MI and addic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In utero/later exp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Developmental Del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peech, language, 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-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Loss, trauma, ab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lso familia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4" descr="logo"/>
          <p:cNvPicPr/>
          <p:nvPr/>
        </p:nvPicPr>
        <p:blipFill>
          <a:blip r:embed="rId1"/>
          <a:stretch/>
        </p:blipFill>
        <p:spPr>
          <a:xfrm>
            <a:off x="0" y="6324480"/>
            <a:ext cx="399960" cy="5335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380880" y="6583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876920" y="18288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2"/>
          <p:cNvSpPr/>
          <p:nvPr/>
        </p:nvSpPr>
        <p:spPr>
          <a:xfrm>
            <a:off x="1295280" y="1295280"/>
            <a:ext cx="5486400" cy="4114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b63"/>
              </a:gs>
            </a:gsLst>
            <a:lin ang="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3"/>
          <p:cNvSpPr/>
          <p:nvPr/>
        </p:nvSpPr>
        <p:spPr>
          <a:xfrm>
            <a:off x="2971800" y="1676520"/>
            <a:ext cx="2286000" cy="1752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3962520" y="3048120"/>
            <a:ext cx="2209680" cy="1752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1828800" y="2971800"/>
            <a:ext cx="2362320" cy="18288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581280" y="18288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ild &amp; Fami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133720" y="35812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724280" y="36576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ubstance Ab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3124080" y="2666880"/>
            <a:ext cx="1828800" cy="1447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3657600" y="2819520"/>
            <a:ext cx="106668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Intak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Evalu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&amp; Treat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Tes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Plann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Case Mgmt.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1181160" y="548640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Times New Roman"/>
              </a:rPr>
              <a:t>                                         </a:t>
            </a:r>
            <a:r>
              <a:rPr b="1" lang="en-US" sz="1400" spc="-1" strike="noStrike">
                <a:solidFill>
                  <a:srgbClr val="ffcc66"/>
                </a:solidFill>
                <a:latin typeface="Times New Roman"/>
              </a:rPr>
              <a:t>Case Management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1028880" y="5486400"/>
            <a:ext cx="7086600" cy="30492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990720" y="228600"/>
            <a:ext cx="716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Physical Medicine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Psychia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990720" y="228600"/>
            <a:ext cx="7086600" cy="30492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3962520" y="7621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Oval 16"/>
          <p:cNvSpPr/>
          <p:nvPr/>
        </p:nvSpPr>
        <p:spPr>
          <a:xfrm>
            <a:off x="3581280" y="533520"/>
            <a:ext cx="990720" cy="60948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3657600" y="685800"/>
            <a:ext cx="914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Busine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Un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4038480" y="1143000"/>
            <a:ext cx="0" cy="304920"/>
          </a:xfrm>
          <a:prstGeom prst="line">
            <a:avLst/>
          </a:prstGeom>
          <a:ln w="936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Oval 19"/>
          <p:cNvSpPr/>
          <p:nvPr/>
        </p:nvSpPr>
        <p:spPr>
          <a:xfrm>
            <a:off x="6400800" y="914400"/>
            <a:ext cx="1905120" cy="83808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Oval 20"/>
          <p:cNvSpPr/>
          <p:nvPr/>
        </p:nvSpPr>
        <p:spPr>
          <a:xfrm>
            <a:off x="457200" y="914400"/>
            <a:ext cx="1219320" cy="83808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Oval 21"/>
          <p:cNvSpPr/>
          <p:nvPr/>
        </p:nvSpPr>
        <p:spPr>
          <a:xfrm>
            <a:off x="0" y="3048120"/>
            <a:ext cx="1066680" cy="99036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Oval 22"/>
          <p:cNvSpPr/>
          <p:nvPr/>
        </p:nvSpPr>
        <p:spPr>
          <a:xfrm>
            <a:off x="304920" y="4572000"/>
            <a:ext cx="1371600" cy="76212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533520" y="1143000"/>
            <a:ext cx="1143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Grassroo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Community Ag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6477120" y="1143000"/>
            <a:ext cx="17524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Primary healthc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25"/>
          <p:cNvSpPr/>
          <p:nvPr/>
        </p:nvSpPr>
        <p:spPr>
          <a:xfrm>
            <a:off x="152280" y="3352680"/>
            <a:ext cx="8384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Publ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Hou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26"/>
          <p:cNvSpPr/>
          <p:nvPr/>
        </p:nvSpPr>
        <p:spPr>
          <a:xfrm>
            <a:off x="533520" y="4724280"/>
            <a:ext cx="8380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Juveni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Just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27"/>
          <p:cNvSpPr/>
          <p:nvPr/>
        </p:nvSpPr>
        <p:spPr>
          <a:xfrm>
            <a:off x="7086600" y="2895480"/>
            <a:ext cx="1219320" cy="99072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28"/>
          <p:cNvSpPr/>
          <p:nvPr/>
        </p:nvSpPr>
        <p:spPr>
          <a:xfrm>
            <a:off x="7302600" y="3200400"/>
            <a:ext cx="7873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Chil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Welf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Oval 29"/>
          <p:cNvSpPr/>
          <p:nvPr/>
        </p:nvSpPr>
        <p:spPr>
          <a:xfrm>
            <a:off x="6934320" y="4419720"/>
            <a:ext cx="1143000" cy="83808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30"/>
          <p:cNvSpPr/>
          <p:nvPr/>
        </p:nvSpPr>
        <p:spPr>
          <a:xfrm>
            <a:off x="7162920" y="4724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Sch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1523880" y="1676520"/>
            <a:ext cx="304920" cy="380880"/>
          </a:xfrm>
          <a:prstGeom prst="line">
            <a:avLst/>
          </a:prstGeom>
          <a:ln w="936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32"/>
          <p:cNvSpPr/>
          <p:nvPr/>
        </p:nvSpPr>
        <p:spPr>
          <a:xfrm>
            <a:off x="1066680" y="3505320"/>
            <a:ext cx="304920" cy="0"/>
          </a:xfrm>
          <a:prstGeom prst="line">
            <a:avLst/>
          </a:prstGeom>
          <a:ln w="936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33"/>
          <p:cNvSpPr/>
          <p:nvPr/>
        </p:nvSpPr>
        <p:spPr>
          <a:xfrm flipV="1">
            <a:off x="1676520" y="4724280"/>
            <a:ext cx="304560" cy="152640"/>
          </a:xfrm>
          <a:prstGeom prst="line">
            <a:avLst/>
          </a:prstGeom>
          <a:ln w="936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34"/>
          <p:cNvSpPr/>
          <p:nvPr/>
        </p:nvSpPr>
        <p:spPr>
          <a:xfrm flipH="1">
            <a:off x="6781320" y="3429000"/>
            <a:ext cx="304920" cy="0"/>
          </a:xfrm>
          <a:prstGeom prst="line">
            <a:avLst/>
          </a:prstGeom>
          <a:ln w="9360">
            <a:solidFill>
              <a:srgbClr val="ffcb6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35"/>
          <p:cNvSpPr/>
          <p:nvPr/>
        </p:nvSpPr>
        <p:spPr>
          <a:xfrm flipH="1" flipV="1">
            <a:off x="6400800" y="4419720"/>
            <a:ext cx="533520" cy="304560"/>
          </a:xfrm>
          <a:prstGeom prst="line">
            <a:avLst/>
          </a:prstGeom>
          <a:ln w="9360">
            <a:solidFill>
              <a:srgbClr val="ffcb6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36"/>
          <p:cNvSpPr/>
          <p:nvPr/>
        </p:nvSpPr>
        <p:spPr>
          <a:xfrm flipH="1">
            <a:off x="6172200" y="1676520"/>
            <a:ext cx="457200" cy="457200"/>
          </a:xfrm>
          <a:prstGeom prst="line">
            <a:avLst/>
          </a:prstGeom>
          <a:ln w="9360">
            <a:solidFill>
              <a:srgbClr val="ffcb6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37"/>
          <p:cNvSpPr/>
          <p:nvPr/>
        </p:nvSpPr>
        <p:spPr>
          <a:xfrm>
            <a:off x="1447920" y="5595840"/>
            <a:ext cx="350496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Social-emotional  skil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Food/cloth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Transport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Pre-Vocational preparation and job plac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38" descr="logo"/>
          <p:cNvPicPr/>
          <p:nvPr/>
        </p:nvPicPr>
        <p:blipFill>
          <a:blip r:embed="rId1"/>
          <a:stretch/>
        </p:blipFill>
        <p:spPr>
          <a:xfrm>
            <a:off x="228600" y="6172200"/>
            <a:ext cx="399960" cy="5335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9"/>
          <p:cNvSpPr/>
          <p:nvPr/>
        </p:nvSpPr>
        <p:spPr>
          <a:xfrm>
            <a:off x="533520" y="6477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42"/>
          <p:cNvSpPr/>
          <p:nvPr/>
        </p:nvSpPr>
        <p:spPr>
          <a:xfrm>
            <a:off x="4876920" y="594360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MH’s Family Health Model:                         A Developmental  Paradi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8088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amily Health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Line 45"/>
          <p:cNvSpPr/>
          <p:nvPr/>
        </p:nvSpPr>
        <p:spPr>
          <a:xfrm>
            <a:off x="4419720" y="3808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46"/>
          <p:cNvSpPr/>
          <p:nvPr/>
        </p:nvSpPr>
        <p:spPr>
          <a:xfrm flipH="1">
            <a:off x="2666880" y="380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15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NTEGRATED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ERVIC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valn and Rx Pl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duce barriers to 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rug/alc testing;  sobriety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ealth training and  linkage; Prenat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p,ind, fam therap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edicn mang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ily living skills including s-e skil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uilding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ilieu/member counc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43040" y="16765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se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arenting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rts/music/dance/wri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inkages, legal, AA/NA/Chur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raduation Pla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piritual compo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5" descr="logo"/>
          <p:cNvPicPr/>
          <p:nvPr/>
        </p:nvPicPr>
        <p:blipFill>
          <a:blip r:embed="rId1"/>
          <a:stretch/>
        </p:blipFill>
        <p:spPr>
          <a:xfrm>
            <a:off x="152280" y="6172200"/>
            <a:ext cx="400320" cy="5335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457200" y="6477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18:07:50Z</dcterms:created>
  <dc:creator>default</dc:creator>
  <dc:description/>
  <dc:language>en-US</dc:language>
  <cp:lastModifiedBy>HCMARTINEZ</cp:lastModifiedBy>
  <cp:lastPrinted>2009-03-24T03:23:12Z</cp:lastPrinted>
  <dcterms:modified xsi:type="dcterms:W3CDTF">2009-03-24T18:52:51Z</dcterms:modified>
  <cp:revision>44</cp:revision>
  <dc:subject/>
  <dc:title>Welcome to The Center for Mental Health</dc:title>
</cp:coreProperties>
</file>